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9465-7E8E-4F99-926E-2AF9C0FCC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C1FF-301C-4C6E-92B0-48B9C895BA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67BD-2E7F-42A3-8112-FD8FFE8102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7ADB-0FAA-49DC-9FCA-AE1EAAF6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4DAB-F435-4D64-937F-FFD3DC7E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E77-BD05-4859-8BFF-C7E61181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566-0AB6-4780-85FC-EBA53978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2881-4F72-4FBA-A27E-6C0BD5D2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E164-B518-4227-BD37-08A61E64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15F4-89F3-4542-9147-E24BCB72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E27D-2FDF-4463-B13D-B1BECE93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1F10-E324-4CDF-ABEE-4CEB3056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6244-A7CD-4FE0-A650-3B5F5E40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833E-ABEB-44F0-ABE7-E95E128D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958B-C3C0-48BC-88D3-EA873A48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783A-8E6E-4D39-943C-2F3E59CA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7147-619D-47D5-AEE6-A397D0E5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99E5-7538-4E8E-A6FF-920B05DB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2DC4-99F8-4A5B-9CD1-EAFF5A6C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1BEA-F9EB-4F5A-8FE0-6785C829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1318-1E62-4C50-8AFF-58C854DC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B2F-8B31-4F30-84BE-866A8E55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E6C4-D659-468C-A874-06855F22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DF7E-04B3-4108-83CD-5E9BDEB5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3C9-E7E3-4900-87FF-8C2F1EE5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418-428F-4B96-985B-607A1184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883D-B026-468D-912E-ADE15902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1945-B43D-456D-9B18-14A4561764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D6B3-27D0-481C-9F39-CD87E8BF33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hubpages.com/hub/Types-Of-Computer-Viruses" TargetMode="External"/><Relationship Id="rId2" Type="http://schemas.openxmlformats.org/officeDocument/2006/relationships/hyperlink" Target="http://www.spamlaws.com/virus-comtypes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OMPUTER VIRUS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uter Techn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wa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utomatically displays advertisements in order to generate reven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4" descr="http://upload.wikimedia.org/wikipedia/en/1/1a/Pop-up_ads.jpg"/>
          <p:cNvPicPr/>
          <p:nvPr/>
        </p:nvPicPr>
        <p:blipFill>
          <a:blip r:embed="rId1"/>
          <a:stretch/>
        </p:blipFill>
        <p:spPr>
          <a:xfrm>
            <a:off x="3429000" y="3048120"/>
            <a:ext cx="403848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ywa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ftware that enables the user to gain information from a computer without the user’s knowled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2" descr="http://blog.contactpointe.com/wp-content/uploads/2011/08/spyware.jpg"/>
          <p:cNvPicPr/>
          <p:nvPr/>
        </p:nvPicPr>
        <p:blipFill>
          <a:blip r:embed="rId1"/>
          <a:stretch/>
        </p:blipFill>
        <p:spPr>
          <a:xfrm>
            <a:off x="1676520" y="3505320"/>
            <a:ext cx="28954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ile Vir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rus that infects programs or executable files.  When the program is run, the virus is activat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rnoby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torious for overwriting a section of the hard disk, making it impossible to access da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ot Sector Vir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ects the system files that your computer uses every time it is turned 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use widespread damage and recurring proble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oned Vir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ery time you turn on your computer the virus is activated and infects any non-write-protected files including your hard dis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ojan Hor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uter program that seems to perform one function while actually doing something el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fferent from a virus because it does not make copies of itsel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kes your computer susceptible to malicious intrud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fferent tasks that can be affec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ealing passwor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leting fi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Trojan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4772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ojan Horse 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ftware program designed to enter a computer system usually through a network, through security holes and then replicate itsel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reads from computer to computer by copying and multiplying itself thus spreading throughout a net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m 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0" name="Picture 4" descr="Worm"/>
          <p:cNvPicPr/>
          <p:nvPr/>
        </p:nvPicPr>
        <p:blipFill>
          <a:blip r:embed="rId1"/>
          <a:stretch/>
        </p:blipFill>
        <p:spPr>
          <a:xfrm>
            <a:off x="228600" y="2057400"/>
            <a:ext cx="8686800" cy="45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tecting Yourself from Viru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ivirus softwar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ftware that attempts to recognize and destroy viruses before they infect your compu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5" descr="http://lerablog.org/wp-content/uploads/2013/04/antivirus-program.jpg"/>
          <p:cNvPicPr/>
          <p:nvPr/>
        </p:nvPicPr>
        <p:blipFill>
          <a:blip r:embed="rId1"/>
          <a:stretch/>
        </p:blipFill>
        <p:spPr>
          <a:xfrm>
            <a:off x="3581280" y="3352680"/>
            <a:ext cx="4496040" cy="28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tecting Yourself from Viru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pda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ep your programs updated.  Companies often provide updates to fix vulnerabiliti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2" descr="http://www.kenwood-electronics.co.uk/WebFiles/Images/web/uk/Left%20pictures/SoftwareUpdates.jpg"/>
          <p:cNvPicPr/>
          <p:nvPr/>
        </p:nvPicPr>
        <p:blipFill>
          <a:blip r:embed="rId1"/>
          <a:stretch/>
        </p:blipFill>
        <p:spPr>
          <a:xfrm>
            <a:off x="4495680" y="3657600"/>
            <a:ext cx="2619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puter Vir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kind of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licious software written intentionally t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ter a computer without the user’s permission or knowledge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th the ability to replicate itself, thus continuing to spre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tecting Yourself from Viru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n’t open any suspicious emails, attachments, or ad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 careful what you download from the interne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2" descr="http://t3.gstatic.com/images?q=tbn:ANd9GcT4-69dNxr5Ld8d82YItSHPTtw71EQvizR4WyZW24fTFTMD_y8gyw:upscportal.com/civilservices/images/download-button.jpg"/>
          <p:cNvPicPr/>
          <p:nvPr/>
        </p:nvPicPr>
        <p:blipFill>
          <a:blip r:embed="rId1"/>
          <a:stretch/>
        </p:blipFill>
        <p:spPr>
          <a:xfrm>
            <a:off x="1828800" y="4419720"/>
            <a:ext cx="2209680" cy="2120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http://pokbtop.files.wordpress.com/2012/01/email-attachment.jpg"/>
          <p:cNvPicPr/>
          <p:nvPr/>
        </p:nvPicPr>
        <p:blipFill>
          <a:blip r:embed="rId2"/>
          <a:stretch/>
        </p:blipFill>
        <p:spPr>
          <a:xfrm>
            <a:off x="6888240" y="1676520"/>
            <a:ext cx="14475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sons, June Jamrich, and Dan Oja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omputer Concept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Boston: Course Technology - Thompson Learning, 2002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hubpages.com/hub/Types-Of-Computer-Viru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ww.spamlaws.com/virus-comtypes.htm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ttp://www.buzzle.com/articles/different-types-of-computer-viruses.htm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does a virus do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letes files, destroys d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rrupts fi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rrupts your computer syst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plays irritating messag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days, many viruses are more interested in harvesting information from your computer to be used for illegal purpo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iruses Spread Themsel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019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’s like spreading a virus in the human population – we get sick when we are exposed to a virus and our defenses are dow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r computer gets exposed to a virus when its defenses are dow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5" descr="http://thumbs.dreamstime.com/z/computer-virus-5638877.jpg"/>
          <p:cNvPicPr/>
          <p:nvPr/>
        </p:nvPicPr>
        <p:blipFill>
          <a:blip r:embed="rId1"/>
          <a:stretch/>
        </p:blipFill>
        <p:spPr>
          <a:xfrm>
            <a:off x="6477120" y="3733920"/>
            <a:ext cx="22446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reading Viru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ruses spread because people distribute infected files by exchanging disks and CDs, sending e-mail attachments, and downloading documents from the Intern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you open the infected file, the virus may open and waits to infect the next program you run or disk you 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reading Viruses (continued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ruses have the ability to lurk in a computer for days or months, quietly replicating themsel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may not even know your computer has a virus, thus making it easier to spread the vir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igger Ev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 event that activates a task often associated with a computer vir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me Bom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atches for the PC clock to reach a certain date to activate the vir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chelangelo vir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mages files on March 6 the artist’s birthd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gic Bom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atches for a specific set of input to activate the vir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ification of Viru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Picture 6" descr="j0210892[1]"/>
          <p:cNvPicPr/>
          <p:nvPr/>
        </p:nvPicPr>
        <p:blipFill>
          <a:blip r:embed="rId1"/>
          <a:stretch/>
        </p:blipFill>
        <p:spPr>
          <a:xfrm>
            <a:off x="2182680" y="1600200"/>
            <a:ext cx="477864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lwa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licious softwa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nded to damage computers or disrupt computer syste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2" descr="http://www3.pcmag.com/media/images/317665-computer-malware.jpg"/>
          <p:cNvPicPr/>
          <p:nvPr/>
        </p:nvPicPr>
        <p:blipFill>
          <a:blip r:embed="rId1"/>
          <a:stretch/>
        </p:blipFill>
        <p:spPr>
          <a:xfrm>
            <a:off x="3962520" y="3352680"/>
            <a:ext cx="350496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4:19:05Z</dcterms:created>
  <dc:creator>Michelle Guymon</dc:creator>
  <dc:description/>
  <dc:language>en-US</dc:language>
  <cp:lastModifiedBy>ASDUser</cp:lastModifiedBy>
  <dcterms:modified xsi:type="dcterms:W3CDTF">2013-11-10T02:53:07Z</dcterms:modified>
  <cp:revision>35</cp:revision>
  <dc:subject/>
  <dc:title>Viruses</dc:title>
</cp:coreProperties>
</file>